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CB64-0076-4960-889C-4391D7CB2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E248-92EA-4712-8492-F57363A91525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FC7D-7051-4CB7-875A-A468B6DE69BC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466A-BF8D-49A4-9465-59265764825D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about this for your lesson plan response objectives!  Experiential: How does this chapter make you fe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DDFA-9FC8-4EBA-9275-B3D089DAAAD4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 types of responses – like our strategy book – consider what students do a lot of and encourage growth in other areas (just like we don’t want them only reading horse books, expand the ways they can respond, and you may attract/engage students who are bored with more typical responses; Hancock mentions redirecting, refocusing, and expanding response when you write back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E8BB-F23A-4F8F-8DD6-5E62B794B2BB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CF75-7A77-43A3-BC63-960D674F18A0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2C0F-0B59-42E7-AD31-F15523A9B59D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EAAB-6760-4177-9CEE-64F8920C0B8E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7A94-9A90-4AEB-AAE1-EE0BB05C442C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01E6-FAEB-4B0B-AEC8-B5ACB71D54C2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5717-98FF-4DC2-8A92-45601CE56F03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-term knowledge gains; self-awareness; connections to your own lives; rich comparisons across tex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4EBD-5244-41C8-814F-4ECADA1BB2F6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44EE-E348-4B49-95FB-8090A590517C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33B2-D587-4474-8288-288EEC034C27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39BC-A7AF-4628-9899-D58A717D4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6148-1467-40F4-9C31-54D46E48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BB0B-7F47-40E8-829E-0AC8551C6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CB88-CA2D-44C3-B566-050B6A47C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796F-8159-4B8A-B24D-FC1E896E0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B948-D2C7-4BFA-82DF-AB5F580A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DCB8-B8A9-46D7-9E6E-A6F1BF74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BDCC-5DBB-42B6-90B5-A3AD44C8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7B21-2B2A-490E-92CF-4DF2BDD9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7224-ED52-4E9E-B281-7EB8D17E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4A76-FF2D-403B-B65A-60F346EE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A218-F9C6-4976-A145-CE34E0A7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B6AC-6DB8-49E2-89DB-2EFDD049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4D15-D25A-4E72-B62B-5766C5C9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EFE2-75A7-4731-88AF-EA886EF3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2F26-528A-490A-A8A3-6C4B2F4BA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5A18-649E-42E6-9B44-CF04E0B04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4D8A-87E8-4329-95FA-400FE59A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2940-B1C6-4F73-AC49-89AED88F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B04E-E424-4F7F-98BF-980BB3E8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ABF3-35EF-4FFB-BCA6-9C3B7206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4CF6-F147-47E0-974D-121DD8D3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A762-4F2A-4F1E-8295-9CBFBE46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E4DC-2481-40CA-B274-7BD3D1EF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8A83-C894-4409-9037-F62605995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19CE-6840-4265-B889-80312F5EE184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Documenting Responses to Literature and Comprehension Strategy Use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DC423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r. Julie Coiro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Literature Response Journal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Personal meaning-making response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onitoring understand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aking inferenc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aking, validating, or invalidating prediction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Expressing wonder or confus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Character and plot involvemen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haracter interaction or assessment/judgemen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tory Involvemen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Literary evalua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Literary criticism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608200" y="6396120"/>
            <a:ext cx="32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ancock article (1993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000"/>
                </a:solidFill>
                <a:latin typeface="Arial"/>
              </a:rPr>
              <a:t>A challenge: How can we document learning from response activities? 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How can we measure growth and link student responses to our instruction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How can the quality of responses inform our teaching?  (formative assessment)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How can we involve students in the process?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How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might you document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der response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Teacher Anecdotal Record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- observations (stickies, mailing labels) accumulated by date (pair with students’ personal reflections over time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Daily reading log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track # and type of book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Literature Circle Conversation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peer and self evaluation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Sticker Guided Reflections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at involve students and move beyond letter grade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Literature response file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track varied types of prompts and responses and graph result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Screen shot 2011-11-16 at 8.15.34 AM.png"/>
          <p:cNvPicPr/>
          <p:nvPr/>
        </p:nvPicPr>
        <p:blipFill>
          <a:blip r:embed="rId1"/>
          <a:stretch/>
        </p:blipFill>
        <p:spPr>
          <a:xfrm>
            <a:off x="152280" y="304920"/>
            <a:ext cx="6548400" cy="6248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Screen shot 2011-11-16 at 8.16.23 AM.png"/>
          <p:cNvPicPr/>
          <p:nvPr/>
        </p:nvPicPr>
        <p:blipFill>
          <a:blip r:embed="rId2"/>
          <a:stretch/>
        </p:blipFill>
        <p:spPr>
          <a:xfrm>
            <a:off x="1066680" y="914400"/>
            <a:ext cx="782820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ticker Self-Assessment System in Response Journal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19" name="Picture 4" descr="Screen shot 2011-11-16 at 7.52.05 AM.png"/>
          <p:cNvPicPr/>
          <p:nvPr/>
        </p:nvPicPr>
        <p:blipFill>
          <a:blip r:embed="rId1"/>
          <a:stretch/>
        </p:blipFill>
        <p:spPr>
          <a:xfrm rot="179400">
            <a:off x="0" y="2743200"/>
            <a:ext cx="90378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ticker Self-Assessment System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21" name="Picture 3" descr="Screen shot 2011-11-16 at 7.56.57 AM.png"/>
          <p:cNvPicPr/>
          <p:nvPr/>
        </p:nvPicPr>
        <p:blipFill>
          <a:blip r:embed="rId1"/>
          <a:stretch/>
        </p:blipFill>
        <p:spPr>
          <a:xfrm>
            <a:off x="0" y="109440"/>
            <a:ext cx="9144000" cy="66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Screen shot 2011-11-16 at 7.43.44 AM.png"/>
          <p:cNvPicPr/>
          <p:nvPr/>
        </p:nvPicPr>
        <p:blipFill>
          <a:blip r:embed="rId1"/>
          <a:stretch/>
        </p:blipFill>
        <p:spPr>
          <a:xfrm>
            <a:off x="1231920" y="0"/>
            <a:ext cx="6680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Literature Response Journals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(Hancock, 2008, p. 278-279)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ow do you begin to design literature journal prompts?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24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0000"/>
                </a:solidFill>
                <a:latin typeface="Arial"/>
              </a:rPr>
              <a:t>Experiential prompts</a:t>
            </a: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 (connect to personal experiences) 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24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0000"/>
                </a:solidFill>
                <a:latin typeface="Arial"/>
              </a:rPr>
              <a:t>Aesthetic prompts</a:t>
            </a: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 (emotional interactions and character feelings) 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24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0000"/>
                </a:solidFill>
                <a:latin typeface="Arial"/>
              </a:rPr>
              <a:t>Cognitive prompts</a:t>
            </a: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 (inferences, M&amp;MDAVIS)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24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0000"/>
                </a:solidFill>
                <a:latin typeface="Arial"/>
              </a:rPr>
              <a:t>Interpretative prompts</a:t>
            </a: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 (personal judgment about meaning/message &amp; characters) 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onsider these ideas for your “response objective” and center activity in your lesson plans!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Tracking Diversity in Reponse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Personal meaning-making respons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Monitoring understanding – I see that…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Making inferences – I think..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Making, validating, or invalidating predictions – I predict …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Expressing wonder or confusion – I wonder…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haracter and plot involvemen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Character interaction – 1</a:t>
            </a:r>
            <a:r>
              <a:rPr b="0" lang="en-US" sz="2000" spc="-1" strike="noStrike" baseline="30000">
                <a:solidFill>
                  <a:srgbClr val="33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person – If I were him…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Character assessment/judgment – That character is..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tory Involvement – pos/neg reactions as the plot unfolds…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Literary evaluat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Literary criticism – author’s craft or style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181520" y="5943600"/>
            <a:ext cx="6670080" cy="82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Keep a checklist of the opportunities you creat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ND the ways students respon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000"/>
                </a:solidFill>
                <a:latin typeface="Arial"/>
              </a:rPr>
              <a:t>Activity: Documenting Response and Strategy Use in Literature Journals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1.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Trade your Book Activity 7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Running Out of Time journal entries) with a partner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2. Look for evidence of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Hancock’s response categorie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Personal Meaning, Char/Plot, Lit Eval); code all in the margin with PM, CP, and/or L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3. Look for evidence of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M&amp;MDAVIS strategy us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; code all strategies in the margin with a single letter for each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4. Note patterns of individual readers; Then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write a short summary of observation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in your own notebook and what you might teach nex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5. Discuss patterns across the group as a whole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Screen shot 2011-11-16 at 7.39.28 AM.png"/>
          <p:cNvPicPr/>
          <p:nvPr/>
        </p:nvPicPr>
        <p:blipFill>
          <a:blip r:embed="rId1"/>
          <a:stretch/>
        </p:blipFill>
        <p:spPr>
          <a:xfrm>
            <a:off x="0" y="399960"/>
            <a:ext cx="91440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Coding Categories for Literature Response Journal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PM: Personal meaning-making responses 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Monitoring understanding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Making inferences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Making, validating, or invalidating predictions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Expressing wonder or confusion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CP: Character and plot involvement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Character interaction or assessment/judgment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Story Involvement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LE: Literary evaluation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Literary criticism 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764280" y="6400800"/>
            <a:ext cx="32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ancock article (1993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457200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omprehension Strategy Us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Monitor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MC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Making connection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Determining Impt. Idea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Asking Question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Visualiz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Inferenc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Summarizing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4" name="Line 6"/>
          <p:cNvSpPr/>
          <p:nvPr/>
        </p:nvSpPr>
        <p:spPr>
          <a:xfrm>
            <a:off x="4495680" y="1981080"/>
            <a:ext cx="0" cy="4114800"/>
          </a:xfrm>
          <a:prstGeom prst="line">
            <a:avLst/>
          </a:prstGeom>
          <a:ln w="5724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5497200" y="639612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ornett (2010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Documenting Response Diversity and Strategy Use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43000" y="2209680"/>
          <a:ext cx="6858000" cy="343872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258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M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ers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Mon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f6822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CP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Char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lot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f6822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LE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Lit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Eval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f6822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Mon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MC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DI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Ask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Vis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Inf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Sum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</a:tr>
            </a:tbl>
          </a:graphicData>
        </a:graphic>
      </p:graphicFrame>
      <p:sp>
        <p:nvSpPr>
          <p:cNvPr id="138" name="Text Box 77"/>
          <p:cNvSpPr/>
          <p:nvPr/>
        </p:nvSpPr>
        <p:spPr>
          <a:xfrm>
            <a:off x="950760" y="6006960"/>
            <a:ext cx="7567560" cy="825480"/>
          </a:xfrm>
          <a:prstGeom prst="rect">
            <a:avLst/>
          </a:prstGeom>
          <a:solidFill>
            <a:srgbClr val="feffa5"/>
          </a:solidFill>
          <a:ln w="2844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ow would this data inform the feedback you give to a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articular student? What you teach next? To whom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Documenting Response Diversity and Strategy Use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143000" y="2209680"/>
          <a:ext cx="6858000" cy="392616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M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ers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Mon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f6822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CP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Char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lot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f6822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LE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Lit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Eval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f6822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Mon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MC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DI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Ask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Vis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Inf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Sum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</a:tr>
            </a:tbl>
          </a:graphicData>
        </a:graphic>
      </p:graphicFrame>
      <p:sp>
        <p:nvSpPr>
          <p:cNvPr id="141" name="Text Box 77"/>
          <p:cNvSpPr/>
          <p:nvPr/>
        </p:nvSpPr>
        <p:spPr>
          <a:xfrm>
            <a:off x="950760" y="6006960"/>
            <a:ext cx="7567560" cy="825480"/>
          </a:xfrm>
          <a:prstGeom prst="rect">
            <a:avLst/>
          </a:prstGeom>
          <a:solidFill>
            <a:srgbClr val="feffa5"/>
          </a:solidFill>
          <a:ln w="2844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ow would this data inform the feedback you give to a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articular student? What you teach next? To whom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Documenting Response Diversity and Strategy Use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143000" y="2209680"/>
          <a:ext cx="6858000" cy="343872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258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M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ers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Mon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f6822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CP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Char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lot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f6822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LE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Lit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Eval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f6822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Mon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MC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DI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Ask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Vis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Inf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Sum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</a:tr>
            </a:tbl>
          </a:graphicData>
        </a:graphic>
      </p:graphicFrame>
      <p:sp>
        <p:nvSpPr>
          <p:cNvPr id="144" name="Text Box 77"/>
          <p:cNvSpPr/>
          <p:nvPr/>
        </p:nvSpPr>
        <p:spPr>
          <a:xfrm>
            <a:off x="661320" y="5791320"/>
            <a:ext cx="7908840" cy="825480"/>
          </a:xfrm>
          <a:prstGeom prst="rect">
            <a:avLst/>
          </a:prstGeom>
          <a:solidFill>
            <a:srgbClr val="feffa5"/>
          </a:solidFill>
          <a:ln w="2844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ow do these reflect the Common Core Standards?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at do we need more of (even as college students)?? 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Tues, Nov. 22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24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0000"/>
                </a:solidFill>
                <a:latin typeface="Arial"/>
              </a:rPr>
              <a:t>*** Hand In Lesson Plan </a:t>
            </a:r>
            <a:endParaRPr b="0" lang="en-US" sz="21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24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0000"/>
                </a:solidFill>
                <a:latin typeface="Arial"/>
              </a:rPr>
              <a:t>Prepare for class by reviewing Vocabulary Slides and Handouts and thinking about your word and possible activities/prompts to build knowledge of that word </a:t>
            </a:r>
            <a:endParaRPr b="0" lang="en-US" sz="21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Nov. 29: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Diverse Response Option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Chapter 9: Diverse Response Options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Webquest Readings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Dec. 1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Quiz, Book Activity 8 (Topics for Webquests), Work on webquests during class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02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0000"/>
                </a:solidFill>
                <a:latin typeface="Arial"/>
              </a:rPr>
              <a:t>Dec. 6 and 8: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Continue work and share diverse response options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Today’s Learning Objective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1. Identify meaningful aspects of reading respons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2.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Describe </a:t>
            </a:r>
            <a:r>
              <a:rPr b="1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what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 and </a:t>
            </a:r>
            <a:r>
              <a:rPr b="1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how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 you would document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reading performance and growth over time (in a response-based program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3.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Practice documenting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response type and comprehension strategy use in student journal entries and using this data to inform your feedback and instruct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4. **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See connection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between these ideas and your lesson plans (response objectives, assessment ideas, scoring systems, rubrics, etc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ding Respons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Goal = Build comprehension (thinking) and to make it visible!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uring (Process) &gt; Think-aloud &amp; charts to scaffold and organize think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fter (Product) &gt; Responding through writing and the art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Meaningful Responses =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o what?  What makes a text memorable?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ersonal response and long-term knowledge goals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Quick Write: What’s memorable to you? 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nk about all the different ways you have responded to books, movies, and field trips in and out of school. Think silently for one minute and then work with a partner for three minutes to brainstorm the “response” activities that have been most memorable to you. What makes these memorable? 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What responses make your reading/viewing experiences memorable?  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Patterns of Response </a:t>
            </a:r>
            <a:br>
              <a:rPr sz="4000"/>
            </a:b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to Literature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03" name="Picture 3" descr="Picture 9"/>
          <p:cNvPicPr/>
          <p:nvPr/>
        </p:nvPicPr>
        <p:blipFill>
          <a:blip r:embed="rId1"/>
          <a:stretch/>
        </p:blipFill>
        <p:spPr>
          <a:xfrm>
            <a:off x="838080" y="1981080"/>
            <a:ext cx="7391520" cy="4129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5789160" y="6248520"/>
            <a:ext cx="24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Hancock, Chapter 1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hat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should you document in a Reader Response program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ocument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program opportunitie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individual student performance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(linked to specific book titles over the course of the year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Listening behavior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ontact with Book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browsing, attention, proximity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mpulse to Shar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partner read, share/discus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Actions and Drama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readers theater, role playing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Art, Music, and Constructed Product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draw,cook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Oral Respons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retell, lit conversations, prompt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Written Respons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response journals, adapting writing using literature model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4" marL="1789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Hancock p. 421 and 423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After-Reading Response Activities </a:t>
            </a:r>
            <a:br>
              <a:rPr sz="3600"/>
            </a:b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(attempts to reflect natural conversations) 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Discussion Webs: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o view ideas from more than one perspective and make sound decisions informed by evidenc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Literature Circles: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o reflect open, natural conversations about books (use roles to scaffold the experience for beginners)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12:05:21Z</dcterms:created>
  <dc:creator>Julie Coiro</dc:creator>
  <dc:description/>
  <dc:language>en-US</dc:language>
  <cp:lastModifiedBy>Julie Coiro</cp:lastModifiedBy>
  <cp:lastPrinted>2010-11-18T04:53:36Z</cp:lastPrinted>
  <dcterms:modified xsi:type="dcterms:W3CDTF">2011-11-16T14:07:25Z</dcterms:modified>
  <cp:revision>415</cp:revision>
  <dc:subject/>
  <dc:title>Metacognitive Strategy Instruction to Enhance Reading Comprehension</dc:title>
</cp:coreProperties>
</file>